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1044-3BB9-416B-B37B-29952ACA3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EE9A-4130-4B25-BD92-F282DCDD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59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FD3A-0D56-45BC-84C3-E0E09BB41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04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31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04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31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9E24-4FFC-4D06-AA28-D90FFE0C8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502E-5099-4F5F-82B8-66733FB13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E4FD-A9A1-4430-9BA3-9BA522F2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D706-E798-4129-A0B1-20044B12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E2C8-170A-4D5B-9B3F-6195CEF3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F3F7-A01D-4786-B7A7-7A9E5305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6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984D-D52D-4668-9864-0DA86177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BFEF-C8A6-4AF9-90C6-E32DC727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CCE9-4222-4A0D-8E3E-C30B26FE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059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2BE4-9753-4B7E-93EF-C6159B7F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36F6-B63E-440A-B21D-01720531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7560-5221-4E3F-8C73-6A82DB4F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059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2ED3-F7F4-48E9-8231-E2409F549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704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6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704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31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2922-EE8C-456D-A5C9-6DCB02E1A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B02E-72C7-4EB9-9AED-FA61D471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E2AA-0EBC-46FB-85C3-55653040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28F2-CEC6-442C-A409-477AFC22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F558-0F75-48C0-B2EF-3AAF5358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52F6-7E20-41F6-B191-7ADBEB19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59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E277-E038-4A82-8F98-B593B605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AC91-B689-42A6-9688-0D35EE81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7821720" y="0"/>
              <a:ext cx="132084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609480"/>
              <a:ext cx="9142560" cy="114300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D466-9C3C-4E08-9660-4B108BDFDBC8}" type="slidenum"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45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pic>
            <p:nvPicPr>
              <p:cNvPr id="4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320840" cy="685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>
                <a:off x="0" y="1828800"/>
                <a:ext cx="9142560" cy="1905120"/>
              </a:xfrm>
              <a:prstGeom prst="rect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457200" y="1327320"/>
              <a:ext cx="1828800" cy="191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33AF-83D8-4AA8-8888-432590DA83F1}" type="slidenum"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eat Gatsb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three level reading introduction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81080" y="2743200"/>
            <a:ext cx="406404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husband, among various physical accomplishments . .”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pplied)</a:t>
            </a:r>
            <a:endParaRPr b="0" lang="en-US" sz="2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You can’t relive the past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Concentrate on yesterday and you’ll lose today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Selfish pursuits seldom deliver fulfillment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038480" y="2746440"/>
            <a:ext cx="381024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 laughed again, as if she said something very witty . .”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br>
              <a:rPr sz="10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inferences)</a:t>
            </a:r>
            <a:endParaRPr b="0" lang="en-US" sz="2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Daisy made people feel they were special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Daisy was vivacious, full of life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There was an aura of excitement, yet mystery and even sadness about Daisy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343400" y="2133720"/>
            <a:ext cx="3309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 laughed again, as if she said something very witty . . “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pplied)</a:t>
            </a:r>
            <a:endParaRPr b="0" lang="en-US" sz="2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38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Go out of your way to pay special attention to someone and they’ll never forget you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Some people are exciting to be with even when little is actually happening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31114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mportance of visualizing:</a:t>
            </a:r>
            <a:endParaRPr b="0" lang="en-US" sz="32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“ </a:t>
            </a: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We walked through a high hallway into a brightly colored space . .“  </a:t>
            </a:r>
            <a:r>
              <a:rPr b="0" lang="en-US" sz="1200" spc="-1" strike="noStrike">
                <a:solidFill>
                  <a:srgbClr val="cccccc"/>
                </a:solidFill>
                <a:latin typeface="Times New Roman"/>
              </a:rPr>
              <a:t>p. 8</a:t>
            </a:r>
            <a:endParaRPr b="0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25192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summation:</a:t>
            </a:r>
            <a:endParaRPr b="0" lang="en-US" sz="36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Read and appreciate F. Scott Fitzgerald’s use of language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Think on different levels (</a:t>
            </a:r>
            <a:r>
              <a:rPr b="0" i="1" lang="en-US" sz="2800" spc="-1" strike="noStrike">
                <a:solidFill>
                  <a:srgbClr val="cccccc"/>
                </a:solidFill>
                <a:latin typeface="Times New Roman"/>
              </a:rPr>
              <a:t>interact</a:t>
            </a: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Visualize (</a:t>
            </a:r>
            <a:r>
              <a:rPr b="0" i="1" lang="en-US" sz="2800" spc="-1" strike="noStrike">
                <a:solidFill>
                  <a:srgbClr val="cccccc"/>
                </a:solidFill>
                <a:latin typeface="Times New Roman"/>
              </a:rPr>
              <a:t>interact</a:t>
            </a: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Don’t just read, but </a:t>
            </a:r>
            <a:r>
              <a:rPr b="1" lang="en-US" sz="2800" spc="-1" strike="noStrike" u="sng">
                <a:solidFill>
                  <a:srgbClr val="cccccc"/>
                </a:solidFill>
                <a:uFillTx/>
                <a:latin typeface="Times New Roman"/>
              </a:rPr>
              <a:t>experience</a:t>
            </a: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 good literature!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. Scott Fitzgerald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38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His use of language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Your interpretation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A view of human nature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320" y="2832120"/>
            <a:ext cx="3809880" cy="2413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210440" y="196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vels of Reading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Literal:  What are the author’s words?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Inferential:  What is the meaning behind those words?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Applied:  How might this apply to me or to people in general?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180040" y="1981080"/>
            <a:ext cx="1525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y younger and more vulnerable years . . .”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Fitzgerald’s words)</a:t>
            </a:r>
            <a:endParaRPr b="0" lang="en-US" sz="2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A father’s advice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A son’s reserve to pass judgment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Unsought confidenc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483080" y="1981080"/>
            <a:ext cx="291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my younger and more vulnerable years . .”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interpretive)</a:t>
            </a:r>
            <a:endParaRPr b="0" lang="en-US" sz="28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The narrator was close with his father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People confided in the narrator because they felt safe from judgment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Few of the confidences were totally revealing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The narrator feels just a bit superior about his sensitivity towards others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my younger and more vulnerable years . . “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applied)</a:t>
            </a:r>
            <a:endParaRPr b="0" lang="en-US" sz="28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We are influenced by our parents more than we care to admit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People feel a great need to reveal their inner secrets (no matter how lame) to those they trust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Reserving judgment allows us to see others more clearly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There are “haves” and “have nots” in a variety of ways in this world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family have been prominent, well-to-do people . . “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br>
              <a:rPr sz="1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interpretive?)</a:t>
            </a:r>
            <a:endParaRPr b="0" lang="en-US" sz="2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The Carraways have enhanced their family history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05160" y="89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952880" y="2362320"/>
            <a:ext cx="22482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family have been prominent, well-to-do people . . “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pplied)</a:t>
            </a:r>
            <a:endParaRPr b="0" lang="en-US" sz="2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038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Families have been enhancing their bloodlines and pedigree (for the sake of status) throughout history. 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71520" y="1981080"/>
            <a:ext cx="3217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husband, among various physical accomplishments . .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inferences)</a:t>
            </a:r>
            <a:endParaRPr b="0" lang="en-US" sz="2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He was never able to recreate the glory of his college years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Even with all his money, Tom couldn’t find fulfillment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Tom is a very selfish person who hasn’t grown up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9880" y="3276720"/>
            <a:ext cx="381024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0:37:50Z</dcterms:created>
  <dc:creator>FCHS</dc:creator>
  <dc:description/>
  <dc:language>en-US</dc:language>
  <cp:lastModifiedBy>HS Teacher</cp:lastModifiedBy>
  <dcterms:modified xsi:type="dcterms:W3CDTF">2003-01-14T16:07:25Z</dcterms:modified>
  <cp:revision>19</cp:revision>
  <dc:subject/>
  <dc:title>The Great Gatsby: A three level reading introduction</dc:title>
</cp:coreProperties>
</file>